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2967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4760" y="0"/>
            <a:ext cx="2966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8677440"/>
            <a:ext cx="2967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F8E84-AFE1-474F-8905-B177334575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74D6D-BBD6-4F34-BF33-3865652230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5CB40-11F3-4F0B-92AC-79B7EE922B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B7236-C2DF-4DE2-8DF6-7F31FEB27D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14FC4-3899-4769-8787-C4B2EA73FB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A7A0-0758-49F6-8443-4BC9E6820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3584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06400" y="5885280"/>
            <a:ext cx="793584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8359D-EBBC-447A-B8E0-779AC9768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2960" y="2276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5885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72960" y="5885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ED7A-D36C-4A0C-814A-ECE18B199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25549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480" y="2276280"/>
            <a:ext cx="25549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2560" y="2276280"/>
            <a:ext cx="25549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06400" y="5885280"/>
            <a:ext cx="25549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480" y="5885280"/>
            <a:ext cx="25549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2560" y="5885280"/>
            <a:ext cx="25549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8A66-1331-4764-931B-E9B5D8FD1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06400" y="2276280"/>
            <a:ext cx="793584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3584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252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2960" y="2276280"/>
            <a:ext cx="387252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06400" y="875880"/>
            <a:ext cx="79358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2960" y="2276280"/>
            <a:ext cx="387252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06400" y="5885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06400" y="2276280"/>
            <a:ext cx="793584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75DD-5FB1-4BD9-8CF6-6BEF3C0AF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252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2960" y="2276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72960" y="5885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2960" y="2276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06400" y="5885280"/>
            <a:ext cx="793584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3584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06400" y="5885280"/>
            <a:ext cx="793584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2960" y="2276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6400" y="5885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72960" y="5885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25549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9480" y="2276280"/>
            <a:ext cx="25549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2560" y="2276280"/>
            <a:ext cx="25549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06400" y="5885280"/>
            <a:ext cx="25549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9480" y="5885280"/>
            <a:ext cx="25549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2560" y="5885280"/>
            <a:ext cx="25549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3584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784A0-2CE0-41D6-821C-B6D1629BA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252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72960" y="2276280"/>
            <a:ext cx="387252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799B-24AE-4150-BACF-2980FD967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74D9-C3E9-4BC7-AA13-4544D02FA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06400" y="875880"/>
            <a:ext cx="79358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84186-A80A-4F74-A255-AA7E49B1C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2960" y="2276280"/>
            <a:ext cx="387252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06400" y="5885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956C-5C3C-4567-BB73-263DAB88B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252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2960" y="2276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72960" y="5885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4E10-2E5C-407A-A2F6-8649DD128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2960" y="2276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06400" y="5885280"/>
            <a:ext cx="793584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4460-EC44-4408-A78D-0C7183F6F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2276280"/>
            <a:ext cx="793584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84720" y="6381720"/>
            <a:ext cx="468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8 EGEM i-team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25200" y="6381360"/>
            <a:ext cx="212724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Pagina </a:t>
            </a:r>
            <a:fld id="{4E422831-BF53-40DA-9036-2C02ED18927A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624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284720" y="6381720"/>
            <a:ext cx="468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8 EGEM i-team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2556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66333B3E-B67F-4D2A-95EF-095C915D195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28720" y="1517760"/>
            <a:ext cx="763092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488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sluitvorming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: RGBZ 1.0 en StUF ZKN 03.10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: StUF protocolbindingen 0301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93800" y="4859280"/>
            <a:ext cx="69451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er Kla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recht, 25 november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UF Regiegroe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25560" y="6381720"/>
            <a:ext cx="21286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E9465C59-405A-4BC0-8E81-90679CA3FF4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78040" y="752400"/>
            <a:ext cx="794196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936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ststellen 'In Gebruik'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GBZ 1.0 en het bijbehorend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F Sectormodel StUF ZKN 3.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0720" y="2517840"/>
            <a:ext cx="794232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2520" bIns="46800" anchor="t">
            <a:noAutofit/>
          </a:bodyPr>
          <a:p>
            <a:pPr>
              <a:lnSpc>
                <a:spcPct val="87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 een nieuwe versie van een StUF onderdeel gereed is, stellen de StUF Expertgroep en de StUF Regiegroep de status 'In Gebruik' vast.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ze vaststelling worden gebruikers en ICT-leveranciers opgeroepen deze nieuwe versie op te nemen in software en in gebruik te ne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uit: StUF Beheermodel en releasebele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5040360"/>
            <a:ext cx="6300720" cy="1439640"/>
          </a:xfrm>
          <a:prstGeom prst="roundRect">
            <a:avLst>
              <a:gd name="adj" fmla="val 10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Besluit: De StUF RG heeft besloten om StUF ZKN e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StUF protocolbindingen aan te houden e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nog niet </a:t>
            </a: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de status "In gebruik" te gev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De aansluiting op de (versies van) OSB-standaarde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is namelijk niet voldoende helder en afgestem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25560" y="6381720"/>
            <a:ext cx="21286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B291323D-408A-4A5C-9E30-A82C9FD19F8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78040" y="752400"/>
            <a:ext cx="794196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936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ststellen 'In Gebruik'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StUF protocolbindingen 0301”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.v.m. het opnemen van binaire bijl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2517840"/>
            <a:ext cx="794232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2520" bIns="46800" anchor="t">
            <a:noAutofit/>
          </a:bodyPr>
          <a:p>
            <a:pPr>
              <a:lnSpc>
                <a:spcPct val="87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 een nieuwe versie van een StUF onderdeel gereed is, stellen de StUF Expertgroep en de StUF Regiegroep de status 'In Gebruik' vast.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ze vaststelling worden gebruikers en ICT-leveranciers opgeroepen deze nieuwe versie op te nemen in software en in gebruik te ne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uit: StUF Beheermodel en releasebele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5040360"/>
            <a:ext cx="6300720" cy="1439640"/>
          </a:xfrm>
          <a:prstGeom prst="roundRect">
            <a:avLst>
              <a:gd name="adj" fmla="val 10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Besluit: De StUF RG heeft besloten om StUF ZKN e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StUF protocolbindingen aan te houden e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nog niet </a:t>
            </a: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de status "In gebruik" te gev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De aansluiting op de (versies van) OSB-standaarde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is namelijk niet voldoende helder en afgestem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25560" y="6381720"/>
            <a:ext cx="21286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BC6B7460-B2CA-4894-98F0-A176D508087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6400" y="876240"/>
            <a:ext cx="793908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56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ervol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0920" y="2033640"/>
            <a:ext cx="7939080" cy="53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t">
            <a:noAutofit/>
          </a:bodyPr>
          <a:p>
            <a:pPr>
              <a:lnSpc>
                <a:spcPct val="87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ocumenten gereed maken voor publicat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ublicati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ommunicat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04880" indent="-344520">
              <a:lnSpc>
                <a:spcPct val="87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Website EG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04880" indent="-344520">
              <a:lnSpc>
                <a:spcPct val="87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ieuwsbericht EGEM (e/o KING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04880" indent="-344520">
              <a:lnSpc>
                <a:spcPct val="87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eden StUF/RSGB commun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04880" indent="-344520">
              <a:lnSpc>
                <a:spcPct val="87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GEM stuurgro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04880" indent="-344520">
              <a:lnSpc>
                <a:spcPct val="87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+comm. kanalen van RG leden zelf..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pecifieke onderwerp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 de communicati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04880" indent="-344520">
              <a:lnSpc>
                <a:spcPct val="87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…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 Klaver</dc:creator>
  <dc:description/>
  <dc:language>en-US</dc:language>
  <cp:lastModifiedBy>Peter</cp:lastModifiedBy>
  <dcterms:modified xsi:type="dcterms:W3CDTF">2009-11-26T06:29:53Z</dcterms:modified>
  <cp:revision>52</cp:revision>
  <dc:subject/>
  <dc:title>Vaststelling RSGB, StUF ZKN</dc:title>
</cp:coreProperties>
</file>